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3B3-2143-40CA-8D8E-62E560BE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78A-64C1-4282-B863-808C95A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DDC-8727-41C6-9C43-134EB9FD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450-615B-4832-B4EE-781AB4D3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0B3-C0D8-4AE6-8EE2-C96089E0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9D4-6D3A-46E4-8E92-82A73176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845-0497-474B-9BAD-2CE8517F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F44-2EBA-44EC-B48A-EE72881A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F6E-02D7-4B1C-8F1A-68897D7E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6BD-6AB4-4BD6-A6D5-F11410F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497-5530-40AF-8A31-74B522B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D22-70C4-4F5D-B843-9B33FAE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6046-85F1-4D82-AF20-59B830DD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astle&amp;hl=en&amp;safe=strict&amp;gbv=2&amp;biw=1024&amp;bih=533&amp;tbm=isch&amp;tbnid=oMVp4qVZ3eSwmM:&amp;imgrefurl=http://www.hogwild.net/Rants/castle-pictures-edinburgh-castle-ashford-castle-neuschwanstein-castle.htm&amp;docid=8JLquuO44soaWM&amp;imgurl=http://www.hogwild.net/images/Misc/castle-neuschwanstein-castle.jpg&amp;w=370&amp;h=370&amp;ei=lY9fT_vXCKqKsAKR3rCFCA&amp;zoom=1&amp;iact=hc&amp;vpx=752&amp;vpy=145&amp;dur=921&amp;hovh=225&amp;hovw=225&amp;tx=147&amp;ty=100&amp;sig=100501383441446942702&amp;page=1&amp;tbnh=161&amp;tbnw=161&amp;start=0&amp;ndsp=8&amp;ved=1t:429,r:3,s:0" TargetMode="External"/><Relationship Id="rId2" Type="http://schemas.openxmlformats.org/officeDocument/2006/relationships/hyperlink" Target="file:///,s:0" TargetMode="External"/><Relationship Id="rId3" Type="http://schemas.openxmlformats.org/officeDocument/2006/relationships/hyperlink" Target="http://www.chumpysclipart.com/illustration/3206/picture_of_a_pretty_princess_holding_a_handkerchief" TargetMode="External"/><Relationship Id="rId4" Type="http://schemas.openxmlformats.org/officeDocument/2006/relationships/hyperlink" Target="http://www.guppyworks.com/hca_tupd.htm" TargetMode="External"/><Relationship Id="rId5" Type="http://schemas.openxmlformats.org/officeDocument/2006/relationships/hyperlink" Target="http://www.bigstockphoto.com/image-2230450/stock-vector-just-married!-(vector)-cartoon-illustration-of-a-wedding-couple-in-fair-skin-tone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8381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8915400" cy="78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8763120" cy="69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56386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715000"/>
            <a:ext cx="228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nah Fis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1000" y="533520"/>
            <a:ext cx="326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120" y="175248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Once upon a time there was a first born child of 7 sisters. Her name was Taylor. I like to call her the Not-So Fairytale Princess. Oh my goodness was she ugly. Funny thing is that all other 6 of her sisters were beautifu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459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acfd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914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imSun"/>
              </a:rPr>
              <a:t>She lived in a huge castle with her family. They were royalty and Taylor was next up for the throne. She thought she cannot be the queen if she cant find herself a 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da1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V="1">
            <a:off x="914400" y="216828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8006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029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S Mincho"/>
              </a:rPr>
              <a:t>Although Taylor was the oldest girl, all her sisters, Tammie, Terry,Tillie, Tessa, Tyley, and Tixi, were either engaged or married. Poor Taylor, she felt very lon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2835000" cy="373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95680" y="457200"/>
            <a:ext cx="1371600" cy="1219320"/>
          </a:xfrm>
          <a:prstGeom prst="cloudCallout">
            <a:avLst>
              <a:gd name="adj1" fmla="val -45833"/>
              <a:gd name="adj2" fmla="val 7565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so lonely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2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aa4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29200" y="190512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Until one day when she met Joe. Joe was not the most attractive person either. He also had 7 brothers, Jimmy, Joseph, Jake, Jack, Jonah, and James who were all getting married or already were. Which I can see why, these brothers were all very handsome. It was as destiny put them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353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990720"/>
            <a:ext cx="1523880" cy="1447560"/>
          </a:xfrm>
          <a:prstGeom prst="wedgeEllipseCallout">
            <a:avLst>
              <a:gd name="adj1" fmla="val 21666"/>
              <a:gd name="adj2" fmla="val 55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a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1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8120" y="1363680"/>
            <a:ext cx="523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295280"/>
            <a:ext cx="40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e and Taylor fell in love from the very moment they layed eyes on each other. A little bit later, they got married and lived happily ever aft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96252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wild.net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orld’s coolest cast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ogle.com/imgres?q=castle&amp;hl=en&amp;safe=strict&amp;gbv=2&amp;biw=1024&amp;bih=533&amp;tbm=isch&amp;tbnid=oMVp4qVZ3eSwmM:&amp;imgrefurl=http://www.hogwild.net/Rants/castle-pictures-edinburgh-castle-ashford-castle-neuschwanstein-castle.htm&amp;docid=8JLquuO44soaWM&amp;imgurl=http://www.hogwild.net/images/Misc/castle-neuschwanstein-castle.jpg&amp;w=370&amp;h=370&amp;ei=lY9fT_vXCKqKsAKR3rCFCA&amp;zoom=1&amp;iact=hc&amp;vpx=752&amp;vpy=145&amp;dur=921&amp;hovh=225&amp;hovw=225&amp;tx=147&amp;ty=100&amp;sig=100501383441446942702&amp;page=1&amp;tbnh=161&amp;tbnw=161&amp;start=0&amp;ndsp=8&amp;ved=1t:429,r:3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s: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mpysclipart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tty Princess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umpysclipart.com/illustration/3206/picture_of_a_pretty_princess_holding_a_handkerch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ppyworks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gly Prince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uppyworks.com/hca_tupd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spotphoto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rtoon Married Cou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3/13/1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igstockphoto.com/image-2230450/stock-vector-just-married!-(vector)-cartoon-illustration-of-a-wedding-couple-in-fair-skin-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bucket.com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onely Girl, Images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/21/12,  http://www.desibucket.com/tag/lonely-gir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airyt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4/5/12, www.freeplay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8:35:26Z</dcterms:created>
  <dc:creator>install</dc:creator>
  <dc:description/>
  <dc:language>en-US</dc:language>
  <cp:lastModifiedBy>install</cp:lastModifiedBy>
  <dcterms:modified xsi:type="dcterms:W3CDTF">2012-04-13T18:09:28Z</dcterms:modified>
  <cp:revision>9</cp:revision>
  <dc:subject/>
  <dc:title>Slide 1</dc:title>
</cp:coreProperties>
</file>